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2.wmf" ContentType="image/x-wmf"/>
  <Override PartName="/ppt/media/image9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18FC-90B8-4B40-8417-AF107945F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756A-0484-42B5-B2A7-84FE11F5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6325-FA30-4B6F-A49D-C7DC9DDE2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A879-EE9C-4903-B362-55CA68CE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83D1-3E34-4191-A2C4-E51ACDD96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3831-FD31-4F37-8B17-751ED9A1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676A-A249-4A63-9C86-2F2441FD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F21F-9C5E-46E7-A3A2-4A32782F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C27E-C593-47BD-B55F-06224C37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B646-AA99-4FD5-8AE9-8AB27843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5CD3-A273-4964-8B6B-17BED7A3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8E9E-70E3-4861-AB48-31302FD2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28B3-3081-4668-A550-882ECD64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0ACB-1041-440A-8C94-8F242E34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0B55-9DAD-44E0-B5C7-76F171D3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DCCB-38BA-41CA-B289-82C0036EC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0B51-7FAF-46DA-8CF6-FEA631475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83D1-E674-4421-AF35-F3498F2B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2E79-793E-465C-938B-F52A1E9A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CE9B-8A96-4FE2-9EFF-24A358E5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FC01-320D-4B33-9857-71A48001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1A09-485C-40D4-976C-2109A0F2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BF3F-D472-405F-969D-D81ADD65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1D2A-12C9-48CA-98C2-D92188E1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81120"/>
            <a:ext cx="9142560" cy="5275440"/>
            <a:chOff x="0" y="1581120"/>
            <a:chExt cx="9142560" cy="5275440"/>
          </a:xfrm>
        </p:grpSpPr>
        <p:pic>
          <p:nvPicPr>
            <p:cNvPr id="1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Freeform 4"/>
            <p:cNvSpPr/>
            <p:nvPr/>
          </p:nvSpPr>
          <p:spPr>
            <a:xfrm>
              <a:off x="0" y="5591160"/>
              <a:ext cx="3983040" cy="31104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1581120"/>
              <a:ext cx="439092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2117-6600-41FB-AF9C-5624DD0C49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2259000"/>
            <a:ext cx="9142560" cy="4597560"/>
            <a:chOff x="0" y="2259000"/>
            <a:chExt cx="9142560" cy="4597560"/>
          </a:xfrm>
        </p:grpSpPr>
        <p:pic>
          <p:nvPicPr>
            <p:cNvPr id="46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Freeform 4"/>
            <p:cNvSpPr/>
            <p:nvPr/>
          </p:nvSpPr>
          <p:spPr>
            <a:xfrm>
              <a:off x="0" y="5362560"/>
              <a:ext cx="3983040" cy="31104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3486240"/>
              <a:ext cx="439092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85B9-22CE-4D0A-87AC-5349C3CB67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50560" y="4508280"/>
            <a:ext cx="6149880" cy="113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 проекта: Игамбердиева Татья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357120" y="1143000"/>
            <a:ext cx="83581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исла рядом с нам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873"/>
                </a:solidFill>
                <a:latin typeface="Times New Roman"/>
              </a:rPr>
              <a:t>Основополагающий вопро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79280" y="1628640"/>
            <a:ext cx="896472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642960" y="178596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Какую роль играют числа в нашей повседневной жизн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714240" y="3071880"/>
            <a:ext cx="607248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873"/>
                </a:solidFill>
                <a:latin typeface="Times New Roman"/>
              </a:rPr>
              <a:t>Проблемные вопросы учебной       те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Какие существуют причины возникновения чисел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00d4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такое цифры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Какова  роль числа в науке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j0338122"/>
          <p:cNvPicPr/>
          <p:nvPr/>
        </p:nvPicPr>
        <p:blipFill>
          <a:blip r:embed="rId1"/>
          <a:stretch/>
        </p:blipFill>
        <p:spPr>
          <a:xfrm>
            <a:off x="285840" y="142920"/>
            <a:ext cx="150012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873"/>
                </a:solidFill>
                <a:latin typeface="Times New Roman"/>
              </a:rPr>
              <a:t>Учебные вопросы</a:t>
            </a:r>
            <a:r>
              <a:rPr b="0" lang="en-US" sz="3600" spc="-1" strike="noStrike">
                <a:solidFill>
                  <a:srgbClr val="004873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Как считали в древности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Какие существуют разновидности чисе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Запись числа – какая она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Какими  свойствами обладают числ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Кому нужны большие числа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Как  измерить расстояние до звёзд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j0438759"/>
          <p:cNvPicPr/>
          <p:nvPr/>
        </p:nvPicPr>
        <p:blipFill>
          <a:blip r:embed="rId1"/>
          <a:stretch/>
        </p:blipFill>
        <p:spPr>
          <a:xfrm>
            <a:off x="6929280" y="500040"/>
            <a:ext cx="14814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873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4873"/>
                </a:solidFill>
                <a:latin typeface="Times New Roman"/>
              </a:rPr>
              <a:t>ИСТОР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существуют причины возникновения чисел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считали в древности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существуют разновидности чисел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im5"/>
          <p:cNvPicPr/>
          <p:nvPr/>
        </p:nvPicPr>
        <p:blipFill>
          <a:blip r:embed="rId1"/>
          <a:stretch/>
        </p:blipFill>
        <p:spPr>
          <a:xfrm>
            <a:off x="6516720" y="692280"/>
            <a:ext cx="19051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873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4873"/>
                </a:solidFill>
                <a:latin typeface="Times New Roman"/>
              </a:rPr>
              <a:t>ЗНАТО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такое цифры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пись числа – какая она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ми  свойствами обладают числ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8390c"/>
                </a:solidFill>
                <a:latin typeface="Times New Roman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znaki"/>
          <p:cNvPicPr/>
          <p:nvPr/>
        </p:nvPicPr>
        <p:blipFill>
          <a:blip r:embed="rId1"/>
          <a:stretch/>
        </p:blipFill>
        <p:spPr>
          <a:xfrm>
            <a:off x="6659640" y="69228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873"/>
                </a:solidFill>
                <a:latin typeface="Times New Roman"/>
              </a:rPr>
              <a:t>ВСЕЗНАЙ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ова  роль числа в науке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у нужны большие числа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 измерить расстояние до звёзд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d4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im7"/>
          <p:cNvPicPr/>
          <p:nvPr/>
        </p:nvPicPr>
        <p:blipFill>
          <a:blip r:embed="rId1"/>
          <a:stretch/>
        </p:blipFill>
        <p:spPr>
          <a:xfrm>
            <a:off x="6732720" y="549360"/>
            <a:ext cx="19047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873"/>
                </a:solidFill>
                <a:latin typeface="Times New Roman"/>
              </a:rPr>
              <a:t>Дидактические це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8400" y="1981080"/>
            <a:ext cx="7715160" cy="437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ле завершения проекта учащиеся смогут: осознать, что развитие понятия числа, обусловлено потребностями практики; ознакомиться с историческими сведениями о возникновении и развитии чисел; на примере десятичной системы счисления и римской нумерации получить представление о позиционной и непозиционной системах записи чисе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428760" y="500040"/>
            <a:ext cx="150336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873"/>
                </a:solidFill>
                <a:latin typeface="Times New Roman"/>
              </a:rPr>
              <a:t>Что нам предстоит сделат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ыскать информаци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анализировать информацию, полученную в ходе исслед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ть презентацию, буклет, и кроссворд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j0088980"/>
          <p:cNvPicPr/>
          <p:nvPr/>
        </p:nvPicPr>
        <p:blipFill>
          <a:blip r:embed="rId1"/>
          <a:stretch/>
        </p:blipFill>
        <p:spPr>
          <a:xfrm>
            <a:off x="7885080" y="333360"/>
            <a:ext cx="100656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50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d4"/>
                </a:solidFill>
                <a:latin typeface="Arial"/>
              </a:rPr>
              <a:t>Желаю удачи!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9" descr="bd07218_"/>
          <p:cNvPicPr/>
          <p:nvPr/>
        </p:nvPicPr>
        <p:blipFill>
          <a:blip r:embed="rId1"/>
          <a:stretch/>
        </p:blipFill>
        <p:spPr>
          <a:xfrm>
            <a:off x="3714840" y="3214800"/>
            <a:ext cx="20811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12:58:40Z</dcterms:created>
  <dc:creator>Student</dc:creator>
  <dc:description/>
  <cp:keywords/>
  <dc:language>en-US</dc:language>
  <cp:lastModifiedBy>ЗВЕЗДА</cp:lastModifiedBy>
  <dcterms:modified xsi:type="dcterms:W3CDTF">2010-05-06T16:51:51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01049</vt:lpwstr>
  </property>
</Properties>
</file>